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3EE-D068-48F4-881A-3DE86B20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593-4E1F-4274-A5ED-3880AD5F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DFAF3-76ED-4059-A4DD-CC57413A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78305-8741-4CEE-AF16-CC74AECD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94EB0-7E5A-481E-9E0D-AF578AC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80B06-8BAB-4A6F-850B-5D02D5C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35577-8EE7-441C-86FF-3BC34B3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17B0A-A55B-4296-A954-85EF2750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DB392-6FF7-4A6C-9D22-E811CE24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65B48-A31F-4FBB-85BE-59B08FF7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3A72A-2607-4AA3-B739-167BC7C9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75B69-AAE2-43A6-B13A-7912161C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157-5444-4019-B424-B5425F7D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CF225-2539-4517-AF0E-B4034719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CFB30-D651-4F9F-AD11-D1150B68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706EA-161E-4A9D-8979-7509CA9A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1A28D-124A-4C5D-96DB-AAD6C927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B8F3B-31FB-4F63-BE38-28344544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18608-E2F8-4546-8DCD-2301C032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026C5-DBC5-4A66-881B-D2847267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5FC22-6735-484B-A283-5DED4EE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49CF1-45B6-4064-AFAC-4FA1F15A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7AF36-3C5E-42FD-9AC6-306211B0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101-F542-48FD-BE14-C62A3FD7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0CC82-7967-4F40-A8C8-7535AA3B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D1F8F-92DD-40C2-B4B8-BBE89AFB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92425-9AF1-4836-A42A-79D12C6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7603B-EAED-4E9F-AB64-A8DB1021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0921B-DEA7-4960-9675-80B1B926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635A5-63A2-4A63-B190-09834C3F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FE513-7C7A-40E4-AD94-95FE3704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04069-A60A-421F-88EA-E208099D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F3B4B-80FC-4CA0-9F80-6B947AE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6930A-6EEA-4FB2-8965-8BD742F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1C2E-423D-4EA6-AAC8-FDA9B8A2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E151C-23D3-431E-9486-4C82BB33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1AB94-2712-4A70-AD04-8928C9A5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19BE8-84C3-49ED-87A7-CC930AE2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46D4B-64C6-4E08-8381-C673E86C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148B1-90D0-41F3-A5EC-9F847D47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B492F-D7FC-43C6-A868-2FFE0932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F5462-0DAC-4B5B-9A87-BE431D6A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5119A-EE24-467E-A23E-2D88D9CE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380E8-8DDF-4063-9356-233855A8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8FF5B-93AE-4499-A4E3-B6C2C97F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880A-D59F-48B2-B518-4AA01E7A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8F8FA-7DF6-478B-98C4-7DCFF772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2225F-C8C4-4F19-A91F-2B7B2D7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21A94-D66F-40A2-8B3B-2CA7CA82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033C8-FB5C-4F0F-B72E-161B5673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F7139-BF5A-4225-9164-A09AC0B4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5E20-72EE-499F-BCF2-DC01A06E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275-4449-4BE9-88C4-6E8AC8FD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06BD-A21A-4AE4-AF5B-B33D391F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9F6A-A4F3-43B7-B71F-4446E7DD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EC88-0801-4417-8F6A-CF2FAA0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BF7-F3F4-48CE-B256-65953946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74CD-C33E-4BD7-B36F-90D553E8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F316-F02B-45A1-9298-41F61B49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7881-085C-4977-9925-A32A08D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364A-BC9B-4817-826D-0F4F1D91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0284-7D35-414C-9E8D-F5520BD9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8904-6745-4AAF-A9C0-97A877F0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23BD-39D1-4B59-AB90-5B3983E9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5978-A4B6-48EE-9155-FDC35B8A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DCB7-04AC-4BD1-9BF6-FD885EAC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67BA-FB1C-4E13-A6BD-9FF544F2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F1A-2FA4-4E6F-8277-519B23E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81A5-06E3-4A20-A1BE-98B40731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F000-6EC3-4E67-8D96-E943713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AD18-0EA8-4FA4-9AC9-B98888A0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1B56-E880-4FEF-B87A-C39B823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8946-832F-41B7-AFE9-434E18EF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6E34-6A97-4407-92CA-94D811FC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A5F0-C4C1-43A2-98DD-4D5B825E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C83B-AA33-4122-BF0D-53C1EAF8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88F4-D886-4329-A621-7A06E83C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3FA3-F611-421E-A300-6134BC96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993-AFCF-4E87-BA04-A0EDCDD8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BF3E-9915-48D5-8157-EF1AF797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9D29-5CC2-4987-8221-623FBF38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A375-C1C1-43D4-AD85-9EC8C873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6C021-B427-46B2-92E6-AD99139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9D776-B442-4C88-BE0C-348E15FD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143A-438B-472D-AC78-4ADD161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542D2-FB44-49CE-9CA9-C03D34B8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E3BD0-5D97-4B1B-AEE5-7B17411F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02B14-8D16-4058-95D3-A7A63E2D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E22D5-B62D-40DD-B945-FB6BAC9C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9EE-661F-4806-A9CF-ECE9F8EF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64B35-F95C-49DD-AFDE-6637B814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39917-85BD-4D10-8B8A-9C573D83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E733-898C-4001-ADC8-2065C736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9E8B3-73FE-44DC-81AB-F6BD0C0C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D0EF-F8D3-493C-9410-33BBE0D3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0381A-F237-4789-9DFD-37864488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07475-CC87-4E5E-A390-2EA4FE1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CCEA1-4DCE-4210-8B1A-6A4D5CAE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CC959-B506-4120-BDF0-11985DE9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C14D4-A4BD-4167-90C8-6158E4AF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0B9-1E1E-4D55-9024-4F2F63CD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8FBF3-0969-46DA-BC21-A61105BB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CF53F-1FA6-4569-A2E1-5B8B231B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4797-4235-40D0-A10A-5513CBF9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58E6-A9F5-4567-A502-6F214B3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FE5BD-3308-46E7-A9A4-EAF24BA7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3EAB6-8995-46DA-A715-60366EB9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5D98D-97F1-414E-B008-E4491A5F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609A9-DB2B-4533-BD2F-3AEC67B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55C93-E1DB-4A5F-B4B2-FB09875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6073-970C-469C-A30A-E996A3F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466-7824-4C8B-A149-63C71D73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76312-3C9C-45DD-A1E1-4E052C48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D5A09-A2A0-4EEB-910E-6B155331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0B8C-73C2-46E8-AEA7-AFCB124E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10714-0816-41AE-A7AF-8F440E2D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625EB-D02B-46A8-9565-D3C3F49D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E0800-1A77-4562-B563-FE4BE06C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F91EE-5A19-487F-A469-C2207526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AD8B4-F00B-48F6-BD07-99C011F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8BCED-2D59-47FB-BA36-1FA7B28D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52347-BB13-4921-8688-1F98525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C2E-FFE0-4956-BD60-9FBBD4EB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872EC-E5B9-4398-B5E6-CE617783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0CB9C-69C1-4FA7-AC5F-A1BC1BE1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BCB70-BDA8-4DA5-8B60-6404308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00758-3E3C-4C95-9ED6-1D5E3C31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64D98-6980-47D2-B91D-C5780055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0088C-10EB-4DCD-9149-A273B34B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D9134-4458-45F0-8112-AA968310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D0B75-579E-4AA7-A344-CFEFCB6C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AAEEE-464F-46A7-B1B7-DFFFC8E1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978FE-FE09-4D42-933A-11815F5D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C6A-9458-4B64-B896-530A180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0C3F-8945-423D-8136-C7A6EEBE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F1274-FDC4-4FF8-8264-3AF239E5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57F4F-1EC9-4C43-8747-4E6A88F9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6E607-444D-42E9-B37F-D142CF1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72200-824C-418D-8C14-7F5BBDA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F6DFB-0CCB-4654-A3E0-0A184071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799F5-AC75-4588-9DA8-EA8750A5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EDFB5-2A23-42DF-BF3F-2A674389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3E2CB-FB62-4EC0-8BCF-7C13388F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F6E4C-6496-4E00-AD96-DA72C813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64DC-EAE4-4862-9FF3-6F5E1D9BEE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91A5-0A2E-4EFC-AD6F-DDE7CCA5B8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ED62-9ECC-467F-BA68-D9AFE41957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65A9-CBE0-4DD4-BF26-2DD9D115BE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A42B-28A1-4B6C-B4CD-9968127DBD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EA67-53FE-4F88-A0CE-104A255565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AB00-F693-4FD8-B655-239DF2E82A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1C36-E76B-4CAD-9F50-037F41E5DB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EE70-2751-4206-ACC5-E1D7698A3A0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7A7E-7F7E-473D-A319-D6DF5EDA4B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B730-48CF-4FD1-B272-827FDA3A2C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812-CFF9-426D-8E56-DC9A84D7CE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7 Zbor verných detí Kristový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or verných detí Kristov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k službe má byť hotový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čuje každé stvor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ňom je naš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Ducha svoj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chce nám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v našich srdciach prebý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vojej lásky plameňom hriať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ietiť v svete studen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volá k práci každ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hľadá sluhu verné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celý svet to poč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jeho príchod blízko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dielo bude skonče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jeho slávy uzri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trie nám pot i slzu z ri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lávy večnej prijme n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6:02:17Z</dcterms:modified>
  <cp:revision>43</cp:revision>
  <dc:subject/>
  <dc:title>Je veľký náš Pán, on slávy je Kráľ Nech do všetkých strán  spev vrúcnych znie chvál.</dc:title>
</cp:coreProperties>
</file>